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6144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6144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6144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6144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6144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6144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6144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6144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6144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97360" y="17640"/>
            <a:ext cx="17530200" cy="13664520"/>
            <a:chOff x="-8397360" y="17640"/>
            <a:chExt cx="17530200" cy="136645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d5b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97360" y="17640"/>
              <a:ext cx="16794720" cy="136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1" swAng="53967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1" swAng="5396751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3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-7745040" y="1477080"/>
            <a:ext cx="16889040" cy="10767960"/>
            <a:chOff x="-7745040" y="1477080"/>
            <a:chExt cx="16889040" cy="1076796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d5b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45040" y="1477080"/>
              <a:ext cx="13426200" cy="1076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6" y="120"/>
                  </a:moveTo>
                  <a:arcTo wR="10800" hR="10800" stAng="-4886893" swAng="48868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6" y="120"/>
                  </a:moveTo>
                  <a:arcTo wR="10800" hR="10800" stAng="-4886893" swAng="4886893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pter 12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URSUIT OF PERFE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1144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vi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e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dricks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ia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38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stitutional Refor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esticity informed publ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s continued what family b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lums, prisons mended family’s fail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Extension of Educ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schools expanded rapidly from 1820 to 18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of advancement for working cla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of inculcating values of hard work, responsibility to middle-class refo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ace Mann argued schools saved immigrants, poor children from parents’ bad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arents believed public schools alienated children from their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covering the Asyl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, criminal, insane seen as lacking self-discipl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sh measures to promote 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tary confinement of priso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 daily schedu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support for rehabilitation skim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ons, asylums, poorhouses became warehouses for the unwa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orm Turns Radic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form aimed to improve soc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adical reformers sought destruction of old society, creation of perfect social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visions in th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nevolent Empi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 perfectionists impatient by 1830s, split from moderate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nce move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ce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slavery move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s sought gradual end to slavery and colonization of freed slaves to its colony of Lib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s like William Lloyd Garrison demanded immediate emanci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31: Garrison found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Lib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33: American Anti-Slavery Socie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Abolitionist Enterprise: 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odore Dwight Wel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d an itinerant minister converted by Fin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ed his revivalist techniques to ab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ful mass meetings in Ohio, New 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Abolitionist Enterprise:  Public Recep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ed to hard-working small town fo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in cities &amp; near Mason-Dixon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from the working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liked blac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ed black economic and social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citizens saw abolitionists as anarch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Abolitionist Enterprise:  Obstac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ts hampered by in-figh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Lloyd Garrison disrupted movement by associating with radical reform eff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ged abolitionists to abstain from participating in the politica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involved in women’s rights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bolitionists helped form the Liberty Party in 18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lack Abolitionis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r slaves related the horrible realities of bond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nent figures included Frederick Douglass and Sojourner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newspapers, books, and pamphlets publicized abolitionism to a wider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s were also active in the Underground Rail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om Abolitionism to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men's Righ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m opened to women’s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raised awareness of women’s in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eca Falls Convention in 18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by Lucretia Mott, Elizabeth Cady Stant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pted by experience of inequality in abolition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movement for women’s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Rise of Evangelicalis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of church and state gave all churches the chance to compete for conv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ous Protestants formed voluntary associations to combat sin, “infide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dical Ideas &amp; Experiments:  Utopian Commun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opian social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ired by Robert Owen, Charles Fou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Harmony, Indiana—Owe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ierite phalan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us utopi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ida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topian Communities Before the Civil Wa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72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dical Ideas &amp; Experiments:  Transcendentalis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lph Waldo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garet Fu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Rip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cooperative community at Brook F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David Thoreau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unterpoint on Refor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 encountered perceptive cri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iel Hawthorne allegorically refuted perfectionist movements suggesting the world was inherently an imperfect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 prompted necessary changes in Americ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econd Great Awakening: The Frontier Pha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 meetings contributed to frontier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d emotional relig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opportunity for social lif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 meeting revivals conveyed intensely personal religious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 meetings rarely led to social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econd Great Awakening in the Nort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ngland reformers led by Timothy Dwight defended Calvinism against the Enlighten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haniel Taylor: Individuals are free agents and can overcome natural inclination to 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man Beecher and evangelical Calvi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les G. Fin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ed radically from Calvinist doct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eal is based in emotion not r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ney preached in upstate New York and stressed revival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cher and others disturbed by emotionalism of Finney’s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vals led to organization of more chu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om Revivalism to Refor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revivals stimulated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-class participants adapted evangelical religion to preserve traditional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benevolent empire" of evangelical reform movements altered Americ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emperance movement cut alcohol consumption by more than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omesticity and Changes in the American Famil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onception of family’s role in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rearing seen as essential preparation for self-disciplined Christi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confined to domestic 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ssumed crucial role within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rriage for Lo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 love must characterize 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ves became more of a companion to their husbands and less of a serv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ly, the husband was the unchallenged head of the house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ult of Domestic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Cult of True Womanhood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d women in the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rified home as center of all efforts to civilize and “Christianize”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- and upper-class women increasingly dedicated to the home as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of leisure entered reform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Discovery of Childh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eteenth-century child the center of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hild seen as unique, irreplac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to form child’s character with af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al discipline to instill guilt, not f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 child to learn self-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size declines from average of 7.04 children to 5.42 by 18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7:00Z</dcterms:created>
  <dc:creator>CMU</dc:creator>
  <dc:description/>
  <cp:keywords/>
  <dc:language>en-US</dc:language>
  <cp:lastModifiedBy>Teresa Ward User</cp:lastModifiedBy>
  <cp:lastPrinted>2012-10-11T23:32:59Z</cp:lastPrinted>
  <dcterms:modified xsi:type="dcterms:W3CDTF">2006-11-10T16:25:11Z</dcterms:modified>
  <cp:revision>14</cp:revision>
  <dc:subject/>
  <dc:title>CHAPTER 11  THE PURSUIT OF PERFECTION</dc:title>
</cp:coreProperties>
</file>